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4FC-41BF-4589-A87B-851290CC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E5F-40C9-4C77-82CE-234E5DA7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CA6-9F4E-4CD5-B66B-333F3E23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52A-026C-4F6F-A733-49B22182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C5A-7661-4A49-9640-C5A7B0FF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9F3-1419-4BC3-BB92-8CFA7B0F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7BA-2F9A-4982-8D23-11E287C3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BB6-5235-4A94-8430-B6CC861A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78F-5085-493F-B59A-290053DF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088-8EDC-43ED-B97B-D62807E5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E07-AAAB-46D9-9C21-C5583F2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297-25D9-4B80-AFBC-B556610C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29CE-4763-4580-9920-50824904A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044800" y="754200"/>
            <a:ext cx="629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ный час на тему:       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«Память сердца»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359240" y="4478400"/>
            <a:ext cx="42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Автор:  Троянова  Светлана Пав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996736591"/>
          <p:cNvPicPr/>
          <p:nvPr/>
        </p:nvPicPr>
        <p:blipFill>
          <a:blip r:embed="rId2"/>
          <a:stretch/>
        </p:blipFill>
        <p:spPr>
          <a:xfrm>
            <a:off x="3419640" y="620640"/>
            <a:ext cx="51847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201840" y="836640"/>
            <a:ext cx="5329440" cy="3997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3635280" y="198900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</a:rPr>
              <a:t>Историческая память - это то, без чего не может быть человека нравственного, что делает человека граждан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30069ffbd189"/>
          <p:cNvPicPr/>
          <p:nvPr/>
        </p:nvPicPr>
        <p:blipFill>
          <a:blip r:embed="rId2"/>
          <a:stretch/>
        </p:blipFill>
        <p:spPr>
          <a:xfrm>
            <a:off x="4859280" y="1628640"/>
            <a:ext cx="3673440" cy="3813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2124000" y="54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еоргиевская л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0ca5f26e7e2"/>
          <p:cNvPicPr/>
          <p:nvPr/>
        </p:nvPicPr>
        <p:blipFill>
          <a:blip r:embed="rId3"/>
          <a:srcRect l="0" t="0" r="44648" b="0"/>
          <a:stretch/>
        </p:blipFill>
        <p:spPr>
          <a:xfrm>
            <a:off x="3132000" y="1341360"/>
            <a:ext cx="1168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760920" y="622440"/>
            <a:ext cx="493236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692360" y="511200"/>
            <a:ext cx="2544840" cy="197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2016360" cy="232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867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70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Объект 1"/>
          <p:cNvGraphicFramePr/>
          <p:nvPr/>
        </p:nvGraphicFramePr>
        <p:xfrm>
          <a:off x="2484360" y="404640"/>
          <a:ext cx="6002280" cy="40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04640"/>
                    <a:ext cx="600228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411280" y="29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нтернет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сточники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http://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403280" y="981000"/>
            <a:ext cx="640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Источник шаблона: Шумарина Вера Алексе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читель ГКС(К)ОУ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’’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(К)ОШ №11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VIII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ида.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. Балашова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’’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айт: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http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://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pedsovet.su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4T06:49:26Z</dcterms:modified>
  <cp:revision>15</cp:revision>
  <dc:subject/>
  <dc:title>Слайд 1</dc:title>
</cp:coreProperties>
</file>